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E13-EE5F-4C40-9F25-4446780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D2B-F4FB-4789-BB23-A7614920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826-6D39-4AE2-8E04-A1467AEB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1E6-3643-4363-8963-2006BB1A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3AA-F548-4485-A293-0A118CEE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B041-FBB4-4FC9-A481-DC044CEB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95F0-FE45-4475-AEE0-4FC97EA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535-3100-4D8F-9278-94BC5070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639-CD1B-425B-B10F-D3D9851B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912-B206-4BCC-96CC-599F4BF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3DAA-2642-42E1-8FE1-9F77B8F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36B-BF31-4A2A-A38B-09363FA1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1E8-2344-4A4B-AB39-488F604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BA20-D836-4DA9-9FD6-DB44A08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604-163A-477B-8EE8-06899CB0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B612-8432-4260-8708-BF5473A0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BD17-FFF9-43E6-A521-B988E4C7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B77-B73B-4E7E-911E-884830D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536-BE8C-45E6-9527-784A141F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C75-5B09-4ABF-B195-64082AD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9F3-ADA7-4C6B-93DD-2B5A2D68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E8A-186F-43B7-AFEF-92A9827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6EA-6ADD-46E2-89D9-1CF21D6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466-85FF-4446-855E-EFDC47F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7C0-D98F-4777-89A9-4FC14E0BA62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D2D-1676-45F8-A25E-DD2A829B15B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lay Ball!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5760" y="37335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By: Janyssa Phillips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867280" y="4038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What effect does gender have on how far you can throw a baseball?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14079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Hypothesi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I predict that both boys and girls will have about the same distance.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Material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will need two baseballs, 4 7</a:t>
            </a:r>
            <a:r>
              <a:rPr b="0" lang="en-US" sz="3200" spc="-1" strike="noStrike" baseline="30000">
                <a:solidFill>
                  <a:srgbClr val="ff8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 grade girls and boys(4 for each), a tape measure, two teachers (boy and girl), and four extra people to help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Procedure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Make a line outside, boys and girls, have two helpers at each line. Then, have one of the helpers have a measuring and one recording the data. Next, have each person throw a ball, measure and record the data with each person. The send everyone back to class.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Results For Boy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Name     Sports       Distanc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Gus     track, basketball, football                                                       140 ft. 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ylan  football, track                                                           157ft.4in. 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Chase  football, track, golf                                                  137ft.5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Jacob  cross-country, track                                                  67ft.4in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.                   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Results For Girl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Name        Sports     Distance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Jessica  volleyball, track                                                         76ft.6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estiny, volleyball, basketball, softball, and track                   107ft.4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Daltyn   volleyball, basketball                                                   84ft.10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Mrs.Riffel volleyball, basketball, and track                               95ft.8in.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think that it does not matter which gender you are. It just depended on which sports you were involved in, and if you have to throw a lot. So, not does not matter what gender you are but if you like to play sports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90920" y="762120"/>
            <a:ext cx="6095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Acknowledgements 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I want to thank Mrs. Riffel for letting me do this project. I also want to thank anyone who let me borrow some stuff, like a baseball (Thank you Mr. Bauerle.) I also want to thank anyone involved in my project, and being so corruptive. I have a special thanks to Kandra Pattison for writing all of my results down for me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SD376</cp:lastModifiedBy>
  <cp:lastPrinted>2010-04-19T19:48:04Z</cp:lastPrinted>
  <dcterms:modified xsi:type="dcterms:W3CDTF">2010-04-30T14:29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